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F40-3BB2-4452-89B8-F237A715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A38-DA22-4E73-B3B3-5B2B31F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016-069A-4927-922F-925AC1BF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0B1-FD13-48CD-A016-7B3F32F3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A10-12EF-41DD-8FC2-0FC104A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AF4-D8D3-479F-A7DC-B7FC4EF0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D0B-3C17-40A8-A29E-976756D2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E98-2E44-4FD5-B5F9-03A1FEC4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3EF-2EEA-42A8-8463-F31C7CA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64F-D4B2-4C11-8BDE-9FC273A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D3-3077-495E-803F-F6823FA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08A-F95E-4A1A-A5FB-C5C8F581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006-112A-48EF-A723-234FAD367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 Y LOS ARGONAU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el referente de un héroe clásico de las narraciones de aven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un héroe que debe hacer una misión, encontrar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7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el referente de películas concret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ículas del agente 007 fue el referente del cine de aventuras de los años        1960-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lículas de Indiana Jones fue el referente del cine de aventuras del año 19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·Marta Martínez Monter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FASES DE LA BUSQUEDA DEL VELLOC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El rey Pelias l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ncarga el velloci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Jas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Jasón emprende u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rgo viaje y accident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leg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Jasón y los Argonautas al lugar y el enfrentamiento para conseguir el velloc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yuda amorosa y inesper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recibe Jasón por parte de Medea, hija de Pel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uida accident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El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retorno victorio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junto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EL 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2087640" cy="259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18730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s dos  foto podemos ver a Jasón con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54952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11280" y="616572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El viaje largo y acciden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27520" y="1600200"/>
            <a:ext cx="207972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9640" y="616572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Llegada al lugar y la lucha para conseguir el velloc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 imagen se muestra como Jasón y los Argonautas se enfrentan contra viento y marea a todo lo que se les pone por 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413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La ayuda amorosa de Me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recibió la ayuda de Medea gracias a Cipris, quien hizo un conjuro para que esta se enamorara de el y le ayud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938760"/>
            <a:ext cx="2665440" cy="23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376360" cy="230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165720"/>
            <a:ext cx="574560" cy="28764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La 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4640" y="1600200"/>
            <a:ext cx="36021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una vez consiguio el vellocino decidio irse, pero Eetes lo persigue por mar, finalmente Jasón, Medea y los Argonautas  regresan sanos y sal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165720"/>
            <a:ext cx="574560" cy="358920"/>
          </a:xfrm>
          <a:prstGeom prst="lef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El retorno victori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y los Argonautas regresan sanos y salvos a Yolco, y la historia finaliza así, pero hay leyendas que nos cuentan cómo Jasón ayudado por Medea reconquista su tr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264120" cy="367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Argonauticas de Apolonio de Rodas: El mito 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són es el referente del cine de aventuras en pelicul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iaje Fantástico de Simb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alcón Mal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cah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disea en e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22:18Z</dcterms:created>
  <dc:creator>Jose Vte</dc:creator>
  <dc:description/>
  <dc:language>en-US</dc:language>
  <cp:lastModifiedBy>Jose Vte</cp:lastModifiedBy>
  <dcterms:modified xsi:type="dcterms:W3CDTF">2010-01-10T21:41:22Z</dcterms:modified>
  <cp:revision>3</cp:revision>
  <dc:subject/>
  <dc:title>JASON Y LOS ARGONAUTAS</dc:title>
</cp:coreProperties>
</file>